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6585-5AED-43F4-98F6-BF22A8B55A3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破伤风外毒素与脊髓前角抑制性神经元结合，阻断抑制性神经元细胞释放抑制性神经递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肌体屈肌、伸肌和呼吸肌运动神经元同时兴奋，出现破伤风所特有的“肌肉痉挛”、“苦笑面容”和“角弓反张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514C8-2254-4851-95F2-E5F9146E20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7D650-F0D5-4902-B721-2D6D721F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667A3-CAF0-401E-9E68-36C9E8A7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678E9-4F30-49C9-A341-87A548BB79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4B465-D69F-435D-8FC0-2ACB1D3D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91E9B-20E5-43ED-B2A7-8D9AF8D5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6475F-8862-4CDC-8BEF-5E08C3AC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239DD-36CB-4B13-B106-45A15508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94FE2-76C4-44D8-8AEF-38671BF9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0273-9C64-4CB6-B30C-01FF61AA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91E11-C140-405D-8853-681664D6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9D45-3465-42EF-B599-0763E3F5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55EA-CF2C-4C62-A835-5D219F7C6D2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57120" y="2857680"/>
            <a:ext cx="6367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 厌氧性细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Anaerobic spore-forming clostridium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85880" y="2000160"/>
            <a:ext cx="782640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涂片及分离培养阳性率极低，一般不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据典型的症状及创伤史可作出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的致病性及抗毒素保护性动物实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000160" y="1143000"/>
            <a:ext cx="495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实验室诊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小鼠"/>
          <p:cNvPicPr/>
          <p:nvPr/>
        </p:nvPicPr>
        <p:blipFill>
          <a:blip r:embed="rId1"/>
          <a:stretch/>
        </p:blipFill>
        <p:spPr>
          <a:xfrm>
            <a:off x="5788080" y="4376880"/>
            <a:ext cx="21477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93800" y="3860640"/>
            <a:ext cx="4290840" cy="2448000"/>
            <a:chOff x="793800" y="3860640"/>
            <a:chExt cx="4290840" cy="2448000"/>
          </a:xfrm>
        </p:grpSpPr>
        <p:pic>
          <p:nvPicPr>
            <p:cNvPr id="171" name="Picture 9" descr=""/>
            <p:cNvPicPr/>
            <p:nvPr/>
          </p:nvPicPr>
          <p:blipFill>
            <a:blip r:embed="rId2"/>
            <a:srcRect l="11224" t="38098" r="3809" b="19509"/>
            <a:stretch/>
          </p:blipFill>
          <p:spPr>
            <a:xfrm>
              <a:off x="793800" y="4149720"/>
              <a:ext cx="4290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6"/>
            <p:cNvSpPr/>
            <p:nvPr/>
          </p:nvSpPr>
          <p:spPr>
            <a:xfrm>
              <a:off x="2406240" y="5235480"/>
              <a:ext cx="889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6ca6"/>
                  </a:solidFill>
                  <a:latin typeface="Arial Narrow"/>
                  <a:ea typeface="宋体"/>
                </a:rPr>
                <a:t>Colony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Oval 2"/>
            <p:cNvSpPr/>
            <p:nvPr/>
          </p:nvSpPr>
          <p:spPr>
            <a:xfrm>
              <a:off x="1867680" y="3860640"/>
              <a:ext cx="268164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3"/>
            <p:cNvSpPr/>
            <p:nvPr/>
          </p:nvSpPr>
          <p:spPr>
            <a:xfrm>
              <a:off x="1801080" y="4221000"/>
              <a:ext cx="100620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141360" y="4149720"/>
              <a:ext cx="60444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28800" y="1714680"/>
            <a:ext cx="79153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buClr>
                <a:srgbClr val="046ca6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正确处理伤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及时清创扩创，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% H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2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伤口污染严重而又未经过基础免疫的患者，立即注射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同时给予破伤风类毒素作主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早期足量使用青霉素，抑制细菌繁殖，终止毒素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儿童接种白、百、破三联疫苗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(DPT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易感人群接种破伤风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5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出现症状的患者使用肌肉松弛剂、镇静剂，缓解临床症状，大剂量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7280" y="1071720"/>
            <a:ext cx="4543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00120" y="285768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28840" y="3500280"/>
            <a:ext cx="3136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G+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杆菌，有芽孢、荚膜，发酵糖类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酸产气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0" name="Picture 7" descr="nfC"/>
          <p:cNvPicPr/>
          <p:nvPr/>
        </p:nvPicPr>
        <p:blipFill>
          <a:blip r:embed="rId1"/>
          <a:srcRect l="39204" t="16432" r="4524" b="13693"/>
          <a:stretch/>
        </p:blipFill>
        <p:spPr>
          <a:xfrm>
            <a:off x="5214960" y="2928960"/>
            <a:ext cx="1827360" cy="281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456200" y="1428840"/>
            <a:ext cx="564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perfringen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28760" y="1844640"/>
            <a:ext cx="6175080" cy="4342680"/>
            <a:chOff x="1328760" y="1844640"/>
            <a:chExt cx="6175080" cy="4342680"/>
          </a:xfrm>
        </p:grpSpPr>
        <p:grpSp>
          <p:nvGrpSpPr>
            <p:cNvPr id="183" name="Group 3"/>
            <p:cNvGrpSpPr/>
            <p:nvPr/>
          </p:nvGrpSpPr>
          <p:grpSpPr>
            <a:xfrm>
              <a:off x="1328760" y="3494880"/>
              <a:ext cx="6088680" cy="1747800"/>
              <a:chOff x="1328760" y="3494880"/>
              <a:chExt cx="6088680" cy="174780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5663160" y="3494880"/>
                <a:ext cx="175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外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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2328480" y="3638160"/>
                <a:ext cx="2203920" cy="1604520"/>
                <a:chOff x="2328480" y="3638160"/>
                <a:chExt cx="2203920" cy="1604520"/>
              </a:xfrm>
            </p:grpSpPr>
            <p:sp>
              <p:nvSpPr>
                <p:cNvPr id="186" name="AutoShape 6"/>
                <p:cNvSpPr/>
                <p:nvPr/>
              </p:nvSpPr>
              <p:spPr>
                <a:xfrm>
                  <a:off x="3614400" y="4279680"/>
                  <a:ext cx="306000" cy="384840"/>
                </a:xfrm>
                <a:prstGeom prst="flowChartConnector">
                  <a:avLst/>
                </a:prstGeom>
                <a:solidFill>
                  <a:srgbClr val="046ca6"/>
                </a:solidFill>
                <a:ln w="9360">
                  <a:solidFill>
                    <a:srgbClr val="046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7"/>
                <p:cNvSpPr/>
                <p:nvPr/>
              </p:nvSpPr>
              <p:spPr>
                <a:xfrm>
                  <a:off x="2880000" y="3638160"/>
                  <a:ext cx="1652400" cy="1604520"/>
                </a:xfrm>
                <a:custGeom>
                  <a:avLst/>
                  <a:gdLst>
                    <a:gd name="textAreaLeft" fmla="*/ 242280 w 1652400"/>
                    <a:gd name="textAreaRight" fmla="*/ 1410120 w 1652400"/>
                    <a:gd name="textAreaTop" fmla="*/ 235080 h 1604520"/>
                    <a:gd name="textAreaBottom" fmla="*/ 1369440 h 160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6667" y="10800"/>
                      </a:moveTo>
                      <a:cubicBezTo>
                        <a:pt x="6667" y="13083"/>
                        <a:pt x="8517" y="14933"/>
                        <a:pt x="10800" y="14933"/>
                      </a:cubicBezTo>
                      <a:cubicBezTo>
                        <a:pt x="13083" y="14933"/>
                        <a:pt x="14933" y="13083"/>
                        <a:pt x="14933" y="10800"/>
                      </a:cubicBezTo>
                      <a:cubicBezTo>
                        <a:pt x="14933" y="8517"/>
                        <a:pt x="13083" y="6667"/>
                        <a:pt x="10800" y="6667"/>
                      </a:cubicBezTo>
                      <a:cubicBezTo>
                        <a:pt x="8517" y="6667"/>
                        <a:pt x="6667" y="8517"/>
                        <a:pt x="6667" y="1080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8"/>
                <p:cNvSpPr/>
                <p:nvPr/>
              </p:nvSpPr>
              <p:spPr>
                <a:xfrm>
                  <a:off x="3430800" y="4087080"/>
                  <a:ext cx="612000" cy="705960"/>
                </a:xfrm>
                <a:custGeom>
                  <a:avLst/>
                  <a:gdLst>
                    <a:gd name="textAreaLeft" fmla="*/ 89280 w 612000"/>
                    <a:gd name="textAreaRight" fmla="*/ 522720 w 612000"/>
                    <a:gd name="textAreaTop" fmla="*/ 102960 h 705960"/>
                    <a:gd name="textAreaBottom" fmla="*/ 60300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2328480" y="4472280"/>
                  <a:ext cx="140796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10"/>
              <p:cNvSpPr/>
              <p:nvPr/>
            </p:nvSpPr>
            <p:spPr>
              <a:xfrm>
                <a:off x="1328760" y="4151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菌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Text Box 11"/>
              <p:cNvSpPr/>
              <p:nvPr/>
            </p:nvSpPr>
            <p:spPr>
              <a:xfrm>
                <a:off x="5663880" y="4344480"/>
                <a:ext cx="17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内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H="1">
                <a:off x="4053960" y="3921480"/>
                <a:ext cx="1341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13"/>
              <p:cNvSpPr/>
              <p:nvPr/>
            </p:nvSpPr>
            <p:spPr>
              <a:xfrm flipH="1">
                <a:off x="3861720" y="4676760"/>
                <a:ext cx="1533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4"/>
            <p:cNvSpPr/>
            <p:nvPr/>
          </p:nvSpPr>
          <p:spPr>
            <a:xfrm>
              <a:off x="1562040" y="5432040"/>
              <a:ext cx="5941800" cy="755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3040560" y="542232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Brush Script MT"/>
                  <a:ea typeface="楷体_GB2312"/>
                </a:rPr>
                <a:t>魏氏梭菌在血平皿上菌落形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>
              <a:off x="4245480" y="1844640"/>
              <a:ext cx="2587320" cy="1510560"/>
            </a:xfrm>
            <a:prstGeom prst="wedgeEllipseCallout">
              <a:avLst>
                <a:gd name="adj1" fmla="val -44675"/>
                <a:gd name="adj2" fmla="val 67449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998880" y="2143440"/>
              <a:ext cx="299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生长速度快</a:t>
              </a: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!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7min/cycle,37°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1357200" y="1428840"/>
            <a:ext cx="356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  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11432" t="0" r="14295" b="0"/>
          <a:stretch/>
        </p:blipFill>
        <p:spPr>
          <a:xfrm>
            <a:off x="6400800" y="990720"/>
            <a:ext cx="1981080" cy="4647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5796000" y="5877000"/>
            <a:ext cx="31878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Brush Script MT"/>
                <a:ea typeface="楷体_GB2312"/>
              </a:rPr>
              <a:t>牛乳培养基中的生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85840" y="12859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汹涌发酵（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tormy fermentation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3800" y="2143080"/>
            <a:ext cx="35319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在牛乳培养基中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乳糖，使牛奶中的酪蛋白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固，同时产生大量气体冲碎凝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的酪蛋白，并使液面上的凡士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封固层向上推挤，甚至冲开管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的棉塞，此现象称为汹涌发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本菌的特点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500280" y="92880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14240" y="1500120"/>
            <a:ext cx="2465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3360" y="306864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3360" y="4581360"/>
            <a:ext cx="821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r>
              <a:rPr b="1" lang="en-US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素，对氧敏感，能改变毛细血管的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透性，并对心肌有毒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35840" y="228456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544920" y="2665440"/>
            <a:ext cx="16002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红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白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肌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697200" y="3732120"/>
            <a:ext cx="15264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49840" y="3808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4078440" y="3884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307040" y="388476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4535640" y="380844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4764240" y="3732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916520" y="36561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3621240" y="35798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544920" y="34275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992840" y="35035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5068800" y="335124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50688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992840" y="29703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784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307040" y="2589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356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687920" y="2665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4916520" y="28177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3621240" y="28177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544920" y="30463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34686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925800" y="266544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3773520" y="2741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1868400" y="327492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822320" y="3504600"/>
            <a:ext cx="1953000" cy="365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1693800" y="27432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卵磷脂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538360" y="38289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785960" y="35719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鞘髓磷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36"/>
          <p:cNvSpPr/>
          <p:nvPr/>
        </p:nvSpPr>
        <p:spPr>
          <a:xfrm>
            <a:off x="5373720" y="3122640"/>
            <a:ext cx="685800" cy="304920"/>
          </a:xfrm>
          <a:prstGeom prst="rightArrow">
            <a:avLst>
              <a:gd name="adj1" fmla="val 50000"/>
              <a:gd name="adj2" fmla="val 63256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6135840" y="2514600"/>
            <a:ext cx="2047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坏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血管内皮损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38"/>
          <p:cNvSpPr/>
          <p:nvPr/>
        </p:nvSpPr>
        <p:spPr>
          <a:xfrm>
            <a:off x="5830920" y="3884760"/>
            <a:ext cx="259704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LD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50</a:t>
            </a: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=5mg/kg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7993080" y="2133720"/>
            <a:ext cx="270000" cy="1066680"/>
          </a:xfrm>
          <a:custGeom>
            <a:avLst/>
            <a:gdLst>
              <a:gd name="textAreaLeft" fmla="*/ 0 w 270000"/>
              <a:gd name="textAreaRight" fmla="*/ 231480 w 270000"/>
              <a:gd name="textAreaTop" fmla="*/ 7113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AutoShape 40"/>
          <p:cNvSpPr/>
          <p:nvPr/>
        </p:nvSpPr>
        <p:spPr>
          <a:xfrm>
            <a:off x="6858000" y="357120"/>
            <a:ext cx="2438280" cy="19051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215120" y="114300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组织气肿，有捻发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428920" y="1285920"/>
            <a:ext cx="472608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：主要由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型菌产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1828800" y="3657600"/>
            <a:ext cx="13716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86000" y="3352680"/>
            <a:ext cx="380880" cy="457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10800000">
            <a:off x="2286000" y="335232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0800000">
            <a:off x="2286000" y="3200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1188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小肠上皮细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438280" y="2666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50920" y="3352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蛋白受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041560" y="21337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352680" y="388620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114800" y="3657600"/>
            <a:ext cx="13716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 rot="15300000">
            <a:off x="4648320" y="4343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5300000">
            <a:off x="510552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048040" y="411480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Freeform 19"/>
          <p:cNvSpPr/>
          <p:nvPr/>
        </p:nvSpPr>
        <p:spPr>
          <a:xfrm>
            <a:off x="2189160" y="4027320"/>
            <a:ext cx="187200" cy="20664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00320" y="42670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2590920" y="411480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26668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Freeform 23"/>
          <p:cNvSpPr/>
          <p:nvPr/>
        </p:nvSpPr>
        <p:spPr>
          <a:xfrm rot="18000000">
            <a:off x="5333760" y="350496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525760" y="382104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2666880" y="3733920"/>
            <a:ext cx="187560" cy="206280"/>
          </a:xfrm>
          <a:custGeom>
            <a:avLst/>
            <a:gdLst>
              <a:gd name="textAreaLeft" fmla="*/ 0 w 187560"/>
              <a:gd name="textAreaRight" fmla="*/ 187920 w 187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343400" y="396252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5105520" y="44956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502920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Freeform 29"/>
          <p:cNvSpPr/>
          <p:nvPr/>
        </p:nvSpPr>
        <p:spPr>
          <a:xfrm rot="18900000">
            <a:off x="5257440" y="342864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47242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rot="2700000">
            <a:off x="5028840" y="36576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Freeform 32"/>
          <p:cNvSpPr/>
          <p:nvPr/>
        </p:nvSpPr>
        <p:spPr>
          <a:xfrm rot="18000000">
            <a:off x="5114880" y="364788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 rot="9000000">
            <a:off x="5028840" y="434304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518148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5638680" y="396252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6434280" y="5029200"/>
            <a:ext cx="2058840" cy="1295280"/>
          </a:xfrm>
          <a:prstGeom prst="irregularSeal1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细胞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705720" y="3505320"/>
            <a:ext cx="1287360" cy="1295280"/>
          </a:xfrm>
          <a:prstGeom prst="downArrowCallout">
            <a:avLst>
              <a:gd name="adj1" fmla="val 27947"/>
              <a:gd name="adj2" fmla="val 27940"/>
              <a:gd name="adj3" fmla="val 16662"/>
              <a:gd name="adj4" fmla="val 66667"/>
            </a:avLst>
          </a:prstGeom>
          <a:solidFill>
            <a:srgbClr val="9696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840360" y="3657600"/>
            <a:ext cx="10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267080" y="5410080"/>
            <a:ext cx="1287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3657600" y="5181480"/>
            <a:ext cx="1346040" cy="1346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726000" y="5638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物中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5283360" y="5715000"/>
            <a:ext cx="947520" cy="228600"/>
          </a:xfrm>
          <a:prstGeom prst="leftArrow">
            <a:avLst>
              <a:gd name="adj1" fmla="val 50000"/>
              <a:gd name="adj2" fmla="val 1165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85840" y="2286000"/>
            <a:ext cx="5286240" cy="185148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气性坏疽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gas gangrene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病原菌芽孢由伤口侵入局部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发芽繁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组织中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生大量气体形成气肿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压迫局部组织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导致局部组织供血、供氧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和侵袭性酶的产生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利于其向周围组织扩散、并增加血管通透性、局部出现水肿，加速坏死组织的蔓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857240" y="1285920"/>
            <a:ext cx="5421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715000" y="2286000"/>
            <a:ext cx="3327480" cy="157680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食物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food poisoning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常因食入被大量产气荚膜梭菌污染的食物（以肉食为主）而感染。临床表现为腹痛、腹泻，极少有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arly stages of the gas gangrene in the leg"/>
          <p:cNvPicPr/>
          <p:nvPr/>
        </p:nvPicPr>
        <p:blipFill>
          <a:blip r:embed="rId1"/>
          <a:stretch/>
        </p:blipFill>
        <p:spPr>
          <a:xfrm>
            <a:off x="284040" y="1557360"/>
            <a:ext cx="4986360" cy="317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642960" y="507204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性蜂窝组织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9" name="Picture 2" descr="gas gangrene"/>
          <p:cNvPicPr/>
          <p:nvPr/>
        </p:nvPicPr>
        <p:blipFill>
          <a:blip r:embed="rId2"/>
          <a:stretch/>
        </p:blipFill>
        <p:spPr>
          <a:xfrm>
            <a:off x="5403960" y="155736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6000840" y="507204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气性坏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765080" y="2000160"/>
            <a:ext cx="5465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涂片镜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取气性坏疽患者伤口渗出物或坏死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分离培养和生化试验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疱肉培养基、血琼脂平板、汹涌发酵试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肠毒素检测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用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ELIS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检测病人粪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571760" y="642960"/>
            <a:ext cx="5943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40464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          </a:t>
                      </a:r>
                      <a:r>
                        <a:rPr b="1" lang="zh-CN" sz="4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厌氧性细菌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                </a:t>
                      </a: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naerobic bacteria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根据能否形成芽胞分为两大类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厌氧芽胞梭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芽胞厌氧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42960" y="1571760"/>
            <a:ext cx="52578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可疑伤口及时清创、扩创，局部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氧水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目前尚无预防用的类毒素及抗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彻底清除坏死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剂量青霉素杀灭局部伤口中的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高压氧舱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治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000080" y="1000080"/>
            <a:ext cx="6202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5892840" y="3902040"/>
            <a:ext cx="3182760" cy="24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_x0016_23-08_GangreneToes.jpg                                         000163BE_x000c_Macintosh HD                   ABA78158:"/>
          <p:cNvPicPr/>
          <p:nvPr/>
        </p:nvPicPr>
        <p:blipFill>
          <a:blip r:embed="rId2"/>
          <a:stretch/>
        </p:blipFill>
        <p:spPr>
          <a:xfrm>
            <a:off x="5916600" y="1268280"/>
            <a:ext cx="3071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14240" y="257184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8" name="Picture 3" descr="bothum形态"/>
          <p:cNvPicPr/>
          <p:nvPr/>
        </p:nvPicPr>
        <p:blipFill>
          <a:blip r:embed="rId1"/>
          <a:srcRect l="0" t="0" r="21172" b="0"/>
          <a:stretch/>
        </p:blipFill>
        <p:spPr>
          <a:xfrm>
            <a:off x="3357720" y="3643200"/>
            <a:ext cx="2428560" cy="201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肉毒"/>
          <p:cNvPicPr/>
          <p:nvPr/>
        </p:nvPicPr>
        <p:blipFill>
          <a:blip r:embed="rId2"/>
          <a:srcRect l="0" t="0" r="10542" b="0"/>
          <a:stretch/>
        </p:blipFill>
        <p:spPr>
          <a:xfrm>
            <a:off x="785880" y="364320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otulinum2"/>
          <p:cNvPicPr/>
          <p:nvPr/>
        </p:nvPicPr>
        <p:blipFill>
          <a:blip r:embed="rId3"/>
          <a:srcRect l="0" t="0" r="42942" b="0"/>
          <a:stretch/>
        </p:blipFill>
        <p:spPr>
          <a:xfrm>
            <a:off x="5929200" y="3643200"/>
            <a:ext cx="242892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1643040" y="11430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肉毒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Clostridium botulinum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357720" y="15001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3" name="Picture 3" descr="botulinum菌落"/>
          <p:cNvPicPr/>
          <p:nvPr/>
        </p:nvPicPr>
        <p:blipFill>
          <a:blip r:embed="rId1"/>
          <a:stretch/>
        </p:blipFill>
        <p:spPr>
          <a:xfrm>
            <a:off x="1571760" y="3000240"/>
            <a:ext cx="5867280" cy="30495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600960" y="1247760"/>
            <a:ext cx="1600200" cy="1295280"/>
          </a:xfrm>
          <a:prstGeom prst="wedgeRoundRectCallout">
            <a:avLst>
              <a:gd name="adj1" fmla="val -93351"/>
              <a:gd name="adj2" fmla="val 141787"/>
              <a:gd name="adj3" fmla="val 16667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715080" y="1500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落较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有溶血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14680" y="1071720"/>
            <a:ext cx="59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病物质及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828800" y="192888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梭菌的致病物质主要是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肉毒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4" descr="肠道"/>
          <p:cNvPicPr/>
          <p:nvPr/>
        </p:nvPicPr>
        <p:blipFill>
          <a:blip r:embed="rId1"/>
          <a:stretch/>
        </p:blipFill>
        <p:spPr>
          <a:xfrm>
            <a:off x="228600" y="3124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309" name="Line 5"/>
          <p:cNvSpPr/>
          <p:nvPr/>
        </p:nvSpPr>
        <p:spPr>
          <a:xfrm flipH="1">
            <a:off x="2057040" y="2438280"/>
            <a:ext cx="380988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6" descr="roudujili"/>
          <p:cNvPicPr/>
          <p:nvPr/>
        </p:nvPicPr>
        <p:blipFill>
          <a:blip r:embed="rId2"/>
          <a:srcRect l="0" t="42759" r="66817" b="21020"/>
          <a:stretch/>
        </p:blipFill>
        <p:spPr>
          <a:xfrm>
            <a:off x="3276720" y="3733920"/>
            <a:ext cx="1218960" cy="1366560"/>
          </a:xfrm>
          <a:prstGeom prst="rect">
            <a:avLst/>
          </a:prstGeom>
          <a:ln w="0">
            <a:noFill/>
          </a:ln>
        </p:spPr>
      </p:pic>
      <p:sp>
        <p:nvSpPr>
          <p:cNvPr id="311" name="Line 7"/>
          <p:cNvSpPr/>
          <p:nvPr/>
        </p:nvSpPr>
        <p:spPr>
          <a:xfrm>
            <a:off x="2286000" y="44197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314440" y="3962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22899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淋巴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 rot="2287800">
            <a:off x="5257800" y="342900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 rot="18000000">
            <a:off x="5295600" y="346716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4495680" y="441972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181480" y="3962520"/>
            <a:ext cx="457200" cy="15541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Brush Script MT"/>
                <a:ea typeface="宋体"/>
              </a:rPr>
              <a:t>乙酰胆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 rot="2287800">
            <a:off x="6553080" y="335268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 rot="18000000">
            <a:off x="6590880" y="339084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400800" y="4038480"/>
            <a:ext cx="45720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神经冲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843280" y="53341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外周神经肌肉接头处颅脑神经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植物神经末梢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7010280" y="4572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7543800" y="3048120"/>
            <a:ext cx="1143000" cy="2819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肌肉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型麻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42960" y="2428920"/>
          <a:ext cx="8381880" cy="3352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⑴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食物中毒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单纯毒素中毒。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胃肠道症状，软瘫，神志清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⑵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婴儿肉毒病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矩形 2"/>
          <p:cNvSpPr/>
          <p:nvPr/>
        </p:nvSpPr>
        <p:spPr>
          <a:xfrm>
            <a:off x="3474360" y="14288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 致 疾 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4280" y="2071800"/>
            <a:ext cx="71438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加强食品卫生管理和监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严格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食前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抛弃可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多价抗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辅助呼吸系统支持疗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外伤肉毒病给予抗生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71840" y="1143000"/>
            <a:ext cx="4097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芽胞厌氧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3880" y="198108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种类繁多、分布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机体正常菌群的主要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重要组成部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绝对优势菌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引起内源性感染，占临床细菌感染的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5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属正常菌群，在成为条件致病菌后，可引起内源性感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感染条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寄居部位改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宿主免疫力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群失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微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642960" y="2000160"/>
            <a:ext cx="80722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腹腔感染：腹膜炎、阑尾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女性生殖道和盆腔感染：盆腔脓肿、子宫内膜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口腔感染：牙周脓肿，下颌骨髓炎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呼吸道感染：坏死性肺炎、肺脓疡等。败血症：多为脆弱类杆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中枢神经系统感染：脑脓疡，可继发中耳炎、鼻窦炎等</a:t>
            </a: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359172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2428560"/>
            <a:ext cx="6910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梭菌的致病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的防治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、肉毒毒素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芽孢厌氧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16280" y="1444680"/>
            <a:ext cx="3217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芽孢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-217440" y="3075120"/>
            <a:ext cx="2417760" cy="576000"/>
            <a:chOff x="-217440" y="3075120"/>
            <a:chExt cx="2417760" cy="576000"/>
          </a:xfrm>
        </p:grpSpPr>
        <p:sp>
          <p:nvSpPr>
            <p:cNvPr id="116" name="Text Box 5"/>
            <p:cNvSpPr/>
            <p:nvPr/>
          </p:nvSpPr>
          <p:spPr>
            <a:xfrm>
              <a:off x="-217440" y="3103200"/>
              <a:ext cx="241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5"/>
            <p:cNvSpPr/>
            <p:nvPr/>
          </p:nvSpPr>
          <p:spPr>
            <a:xfrm>
              <a:off x="65160" y="3075120"/>
              <a:ext cx="18532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394000" y="3076560"/>
            <a:ext cx="1967040" cy="576360"/>
            <a:chOff x="2394000" y="3076560"/>
            <a:chExt cx="1967040" cy="576360"/>
          </a:xfrm>
        </p:grpSpPr>
        <p:sp>
          <p:nvSpPr>
            <p:cNvPr id="119" name="Rectangle 9"/>
            <p:cNvSpPr/>
            <p:nvPr/>
          </p:nvSpPr>
          <p:spPr>
            <a:xfrm>
              <a:off x="2394000" y="3106080"/>
              <a:ext cx="19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622240" y="3076560"/>
              <a:ext cx="15084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4770720" y="3075120"/>
            <a:ext cx="2112480" cy="576000"/>
            <a:chOff x="4770720" y="3075120"/>
            <a:chExt cx="2112480" cy="576000"/>
          </a:xfrm>
        </p:grpSpPr>
        <p:sp>
          <p:nvSpPr>
            <p:cNvPr id="122" name="Rectangle 7"/>
            <p:cNvSpPr/>
            <p:nvPr/>
          </p:nvSpPr>
          <p:spPr>
            <a:xfrm>
              <a:off x="4986360" y="310428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产气荚膜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4770720" y="3075120"/>
              <a:ext cx="21124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7386480" y="3075120"/>
            <a:ext cx="1535400" cy="576000"/>
            <a:chOff x="7386480" y="3075120"/>
            <a:chExt cx="1535400" cy="576000"/>
          </a:xfrm>
        </p:grpSpPr>
        <p:sp>
          <p:nvSpPr>
            <p:cNvPr id="125" name="Rectangle 8"/>
            <p:cNvSpPr/>
            <p:nvPr/>
          </p:nvSpPr>
          <p:spPr>
            <a:xfrm>
              <a:off x="7386480" y="310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艰难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7400520" y="3075120"/>
              <a:ext cx="15084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88920" y="4371840"/>
            <a:ext cx="1555560" cy="576360"/>
            <a:chOff x="88920" y="4371840"/>
            <a:chExt cx="1555560" cy="576360"/>
          </a:xfrm>
        </p:grpSpPr>
        <p:sp>
          <p:nvSpPr>
            <p:cNvPr id="128" name="Text Box 10"/>
            <p:cNvSpPr/>
            <p:nvPr/>
          </p:nvSpPr>
          <p:spPr>
            <a:xfrm>
              <a:off x="88920" y="440028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259560" y="4371840"/>
              <a:ext cx="12150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28840" y="4371840"/>
            <a:ext cx="2049480" cy="576360"/>
            <a:chOff x="2328840" y="4371840"/>
            <a:chExt cx="2049480" cy="576360"/>
          </a:xfrm>
        </p:grpSpPr>
        <p:sp>
          <p:nvSpPr>
            <p:cNvPr id="131" name="Rectangle 12"/>
            <p:cNvSpPr/>
            <p:nvPr/>
          </p:nvSpPr>
          <p:spPr>
            <a:xfrm>
              <a:off x="2328840" y="4400280"/>
              <a:ext cx="20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中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2616840" y="4371840"/>
              <a:ext cx="147312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4952880" y="4371840"/>
            <a:ext cx="1681200" cy="576360"/>
            <a:chOff x="4952880" y="4371840"/>
            <a:chExt cx="1681200" cy="576360"/>
          </a:xfrm>
        </p:grpSpPr>
        <p:sp>
          <p:nvSpPr>
            <p:cNvPr id="134" name="Rectangle 11"/>
            <p:cNvSpPr/>
            <p:nvPr/>
          </p:nvSpPr>
          <p:spPr>
            <a:xfrm>
              <a:off x="4952880" y="4400280"/>
              <a:ext cx="16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气性坏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5024880" y="4371840"/>
              <a:ext cx="153684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937200" y="43005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抗生素相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性腹泻和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膜性结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7192800" y="4303800"/>
            <a:ext cx="1820880" cy="1368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57160" y="2571840"/>
            <a:ext cx="7359840" cy="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441680" y="1924200"/>
            <a:ext cx="0" cy="647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85716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34"/>
          <p:cNvSpPr/>
          <p:nvPr/>
        </p:nvSpPr>
        <p:spPr>
          <a:xfrm>
            <a:off x="33526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57862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821700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85716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3526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57862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>
            <a:off x="821700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71720" y="928800"/>
            <a:ext cx="723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梭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tetani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7544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生物学性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5" descr="破伤风芽孢图"/>
          <p:cNvPicPr/>
          <p:nvPr/>
        </p:nvPicPr>
        <p:blipFill>
          <a:blip r:embed="rId1"/>
          <a:stretch/>
        </p:blipFill>
        <p:spPr>
          <a:xfrm>
            <a:off x="1285920" y="3429000"/>
            <a:ext cx="263376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4071960" y="3429000"/>
            <a:ext cx="403380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071720" y="2643120"/>
            <a:ext cx="729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菌体细长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周鞭毛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荚膜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鼓槌状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有芽胞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03360" y="1484280"/>
            <a:ext cx="789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养特性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培养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疱肉培养基，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37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</a:rPr>
              <a:t>℃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成不规则菌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血平板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培养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后，可形成中心紧密，四周松散似羽毛状的不规则菌落，菌落周边有轻度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β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溶血环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14200" y="142848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物 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7374240" y="60404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85880" y="2500200"/>
            <a:ext cx="7810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痉挛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spasm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由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粒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编码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神经毒素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毒性极强，化学本质为蛋白质，抗原性强，可以经甲醛脱毒为类毒素，刺激机体产生抗毒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溶血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lys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-16b_Tetanus_L"/>
          <p:cNvPicPr/>
          <p:nvPr/>
        </p:nvPicPr>
        <p:blipFill>
          <a:blip r:embed="rId1"/>
          <a:srcRect l="0" t="0" r="0" b="7095"/>
          <a:stretch/>
        </p:blipFill>
        <p:spPr>
          <a:xfrm>
            <a:off x="214200" y="1857240"/>
            <a:ext cx="8534520" cy="38466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2286000" y="1785960"/>
            <a:ext cx="17272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76280" y="55897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进入末梢神经，沿神经轴索的神经纤维间隙逆行向上到达脊髓前角运动细胞，与脊髓前角抑制性神经元结合，阻断抑制性神经元细胞释放抑制性神经递质，使肌体屈肌、伸肌和呼吸肌运动神经元同时兴奋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28840" y="1045800"/>
            <a:ext cx="659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痉挛毒素的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8" descr="TetanusRisusSardonicusPhoto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295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148360" y="1413000"/>
            <a:ext cx="165564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苦笑面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34960" y="4653000"/>
            <a:ext cx="180036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角弓反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12" descr="Tetanus 2 copy"/>
          <p:cNvPicPr/>
          <p:nvPr/>
        </p:nvPicPr>
        <p:blipFill>
          <a:blip r:embed="rId2"/>
          <a:srcRect l="483" t="0" r="241" b="1089"/>
          <a:stretch/>
        </p:blipFill>
        <p:spPr>
          <a:xfrm>
            <a:off x="3564000" y="3645000"/>
            <a:ext cx="5181480" cy="24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3"/>
          <p:cNvSpPr/>
          <p:nvPr/>
        </p:nvSpPr>
        <p:spPr>
          <a:xfrm>
            <a:off x="1928880" y="1357200"/>
            <a:ext cx="497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生破伤风的重要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571760" y="2571840"/>
            <a:ext cx="621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窄而深有泥土或异物污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局部坏死组织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局部组织供血不足同时伴有需氧菌或兼性厌氧菌的混合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6:08Z</dcterms:modified>
  <cp:revision>105</cp:revision>
  <dc:subject/>
  <dc:title>内科护理学</dc:title>
</cp:coreProperties>
</file>